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4BB6-7E51-4CF5-9AE9-16B6ADD9C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29F3D-81E2-47DB-AEBD-F918BB8A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16C3C-0C30-4789-BA3C-2FD6381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DC94A-6401-4221-9B89-6CEFE875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629861-B820-4E01-B3FD-A0137938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3AFC6-A8CD-44B2-9309-625CB45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62A0D-0230-469F-AD27-044E5CE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D1A0D7-235C-47E5-AD16-43AB6E23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31B9B-5539-4A5F-979C-B15A058B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BF7B2-2D2D-453C-A48B-4134E0EA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219895-3B7C-4AF1-9254-1E221F74F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A3DB-7CD9-4EC5-B8FD-704E5B455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3D58-3DB2-4755-AC47-B8014D98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4B3CF-AF64-4958-B07F-F2F78F92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0FC9-A54A-4661-AE06-AD3335AE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E099-55B2-439B-A924-C0D4B8EF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052B1-8F08-4DE0-BDD3-8EE6A8B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0B54-0382-4B23-AB68-425F1BBB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7D2F-23F3-4426-B487-2079B379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20B1-7153-4C6C-ABB0-140888F5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4875-FFD1-45A0-BDD6-8FD6BA8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59C6F-5CD5-49F5-9571-C685CE6C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9B66-8B1B-49FB-9E94-073BDDC8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EF94-063E-4D0C-A467-4B9B1DA52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F8C7-4783-4DE7-968C-2E30BD292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900D1-4730-42F7-945E-CB7B1DB18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45A1FE-7CF0-4B28-923B-CD4E78BB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6889B-4CC3-4DF0-89F5-9A498B19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329861-C0FD-4B83-A9AE-0E19128D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7359C-3254-49EF-B68E-1E1F2430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626F7-0716-4B8C-88EF-2A8D96C0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CFCD91-586E-43DE-B48B-67B61268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390E8-3D84-44EE-8018-4070370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00DA2-2F38-4BAD-978B-3EDCBFFE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BB8C-6A11-4ADA-B1F3-ECBB1EE9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C9C276-5A93-48F2-8768-C4AC664C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2EECB-8D08-490C-95CD-F38656A0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C6E0D-FD4E-49B5-B092-FBA4672E4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FDE3C-F375-4047-BC38-5F8A52636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24FA4-E5FE-4EB1-B691-D98FA0C9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ABB2A-9412-4D8D-AFFE-B02F7A2D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1E4E9-4791-4F61-9B3D-21005F4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70708-93E3-4F66-A35C-3959BBF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67E07-BF27-4C37-9223-87834229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33A2D-F374-46CC-8568-87BECE42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3DD5A-C145-4D33-995D-9F11E153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38C91-D2AD-4337-BB89-92EBEF5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C7D5C-2B09-436D-A9CB-C4CEB7EC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067E6-EC78-422A-92F9-D56262E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52F17-F74A-4125-9CB1-9D4DB79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7B7E7-919C-4C53-96A4-88EF3591E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1F83F-BC37-4714-A6A2-1171BA416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196C3-246F-47A5-A3E2-358A655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7228-8306-4677-B091-4D4E212C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A5BAC-F8B3-4546-BAF5-0266C38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2B8E7-486A-404A-83FA-CBF0B25D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AEF30-6059-4FEE-9D97-5117B19E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BF04A-12AB-485A-B9E8-136CEFC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09BB0-BBB4-4FF7-832A-F4EAECD9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65B3-0C01-4FE6-8214-9850E1E8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13922-68E0-4E37-8621-F42465ED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152FB-685D-4755-B39F-BFEA4F4C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55003-391E-4F05-9985-9683E16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0C7A6-B9B9-426B-8E29-58065994E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29D80-8998-4E4A-9BC7-D888B446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9C93B-7822-470A-90B4-DCCB0BD4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EC6B0-893B-43AB-8481-2B8F741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8AAD-52D1-4720-A056-BD5AD2D7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75F02-B576-4FC7-BEA4-14C77F0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E4E03-BAF8-4C6F-89B8-BAD3A7F4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27615-DA4B-4FD0-B1E2-846395D1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D2A4A-A1A5-4216-8674-C464784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A1A76-3918-440B-A29A-14367411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D8F37-9F34-4DB8-9AB4-AC7271D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67179-E65B-4617-8CD5-4254C65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9300-A991-434D-AB02-6F8FA26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DB388-C3C8-4363-AFBA-01A14068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1563F-6C80-405C-ACD8-72FB8A49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3A304-E3F2-4C8D-902C-95F3C5E1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AC281-4CAE-4967-BB68-2E4B5B78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5B2E-D3A6-49C8-97E3-DCAD0203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2FD8-AEAE-4FC5-AA55-592C8099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C2525-F315-4E0B-B4E5-992389A6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A366E-A932-42B3-8E10-2BCB3C3D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F332-E327-4002-97A7-3B5B557B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CA17D-08CE-475A-88BD-8077B65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BDA7E-F111-43BF-BDE2-8849596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738EA-CAF4-4B4E-B018-83512200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C2C7D-9EC2-4A13-A80C-4F252963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C695F-599B-4D1C-89D1-ECD6F3D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65C1B-6129-4AD2-B2D7-C1004E16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6875D-B639-4EC5-A874-448DBAF9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FC115-F345-4B40-8348-DA219B31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2476F-C7AC-4BC7-91D2-75A076DE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967E8-2638-4C95-9F0B-24A8194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40530-BE6E-46DF-AB24-2906C61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B4D7B-4345-4B14-A6AB-ACD00637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D0A08-2F6A-41AB-90DB-16082D7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8AB15-09F2-4B86-8A90-FE1E31E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FC791-D055-4F9C-98C2-36EF9B0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20F61-C090-4AFD-9F71-07D4F02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2634D-32AC-4433-A3EF-C3C38A0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3EF9C-DA4A-48E6-AAB4-2CBA189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79482-AA82-40A2-AD6D-FB72780D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98B41-83F3-4EC9-8B99-E569C951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74F46-0E27-4DBA-9BED-E2C4D432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FC5AE-4C4B-40DB-95E8-8CD41BE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66EE0-429F-4BC3-8F2A-6DC6BA2E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ABE64-259F-4422-9438-2D5174AD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07628-003A-45F3-927C-1FFC5673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1F64C-A994-4789-B4BF-2B5B7DCA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C4B9-9021-4A80-9A7E-4FDB2C58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7C82E-A012-4F9C-A12B-FC12C4A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E72AD-751F-48DF-BC24-D4BC030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68270-912E-40F1-8FDC-517C13B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9A6B0-7B94-4584-A903-51023F50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70518-3148-4D4E-829A-635D0083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31A83-E6F9-4413-BF66-1DE04AEA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B00CA-ACC3-4888-8CDF-A8F274F5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E26FA-2EB7-4B05-8F93-9BBB02BC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59066-EF69-4C97-9703-10FA124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C6682-6571-4420-8649-AB2556E0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F0ED2-011A-43CC-A0B1-23351745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4696-D781-478E-A1DA-76710D8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11621-55FC-47BC-B9EE-B1E5BEB1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1887A-6A2A-4A31-A9B0-CB37C499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2E3A4-F819-47BF-A3CE-844AAD0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66DFF-7A3D-45B2-B1CF-0A47A38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FBC64-30E3-4BF3-9803-8C6A046E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7FE3D-E01F-41E7-815D-8074D650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1379C-60DA-4148-89B1-34328BD4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31250-E6E8-459F-85E8-607607A9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A6186-388E-4512-8FA4-3E75CFDD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A2AC6-A7C8-4A46-9694-1B5675E4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7EFB3-AD81-4DBA-AD18-66EA98AF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F328B-5020-4DD4-87EC-10A485A0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EB455-6380-4C6A-B30D-9C609A1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68649-181C-4A31-9223-B63A85E0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CBBBF-530B-45C6-B863-570A532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53BF2-B238-46FE-9EA9-59AF75AD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2440A-B26C-4838-B03B-77A6A96D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FB69B-50EA-43B6-B5D6-B31B1B95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6401B-A81C-4C24-A060-7FE3BBD3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41A97-9FE0-4309-8228-6E342684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18919-2734-49C9-8F79-EA4352EA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7A3E2-21AD-426E-BD71-0C22D301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0C683-3891-4813-8163-36EE2B03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BDCB4-CAEF-4E47-95A4-0D244F99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60402-CD3D-412E-9215-1D214FF9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928AD-FCE5-4848-9F34-30D57491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F5D43-6B7D-41B4-8943-B267CA46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BCC80-413B-410D-809D-DDB48EA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2414B-59AF-47CA-A3FC-85900AE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EE526-A5B5-4607-9B0C-E70E6D1C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60433D-1607-4DBE-B3AF-56C534C2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DC01E-E030-4B0E-B688-8C68064B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49EF-EC67-4559-8330-17925595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6682F-FA09-4F89-A84C-0AC9839F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3B19A-3042-4408-969F-124A792C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133A9-BC0A-4206-8ADB-28E9E25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044D2-5B1F-4B87-BA6F-EC2AE679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21D14-CBF7-40A8-B15C-3C043EC0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20BBA0-AEBA-405C-A189-02E2BAE5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71A60-D07C-43F9-BAF6-6951E9E6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55723-9CC7-4968-A3AE-6ECB94B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C4FF4F-17A3-4176-B5AC-0178BA0F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7A373-5F49-4399-95D8-C239680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CBBBE-1017-46CC-9FF8-EA1139A7A9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0B966-33A5-4724-ABBF-B1B48D5C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6E042-A79D-4550-80D6-12193458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DD259-F7B5-46D1-9FC1-D37819AB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B8AF6-A8F7-413F-85CE-15931286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2C53A-6399-418E-8DCC-F872083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3D6088-EE37-44BA-B23D-6F2309AD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A0704-86AA-49E9-897E-3020DFE6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C1BDE-3FAF-4A88-A337-818C87B7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73B74-A67B-421A-B58B-8C835179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499201-FC51-466C-B9E7-A2E293C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ED0FB-1C5D-40B0-8C1C-4436FBA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23D64F-FB23-49F9-95B5-9BC6ECE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8A7C2C-50F7-43FD-BA0E-5D09FF3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8F4E5-E5E1-4DB4-B69F-68F3187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139DA-D84A-4255-A20C-3D1C6D5C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C9BDC-E7DD-4D8A-B711-DA1CF2AF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269FC-AEC9-4EEB-ABF1-18B31DEB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FEE47-743B-4F4C-B324-96D76AD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C0D05-5F17-4BB8-BDEE-195F0706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34676-D837-4A31-9C10-1A35B50E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92E94-17D6-403C-AB2A-6926AB70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E02D0-7B77-4CB9-B86A-7870C6C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F34F8-30AE-4C5A-9471-69973BC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50779D-988A-4FE2-A6DD-C19EC5A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90131-2BAA-4548-9755-ACBC0CF7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2535F-A181-4450-8B81-3FCA1FEB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E4C51-4F38-42D3-B1CF-86C7103A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6A8D2-9755-4D1D-B380-4089B38D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7CC5D-C98D-4198-93A5-434D6DAC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F9DB4-48B6-4810-BBFE-8E5F4740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DD158-2CC4-425A-8CC2-D14C5D66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811A4-32B2-4CDA-88F1-B2DED89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52EAC-9629-40EE-B830-E16C8E5F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6C067-27BC-4DA3-AA91-8CB516B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1DF09B-A034-4DD6-AEA8-31B17E72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E09A86-7CAF-47C1-916B-78584261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5279FF-6B1F-42C0-9011-1FCED85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5234E-A9BD-416B-A3CF-A81A995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0ED08-66A4-45A8-BBEC-C8E9F718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0CB27-F4A5-4267-B044-514A0FE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18392B-2104-4999-9A7A-90ECE5FF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7C4CD0-017E-4E92-9324-AF162AC4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1FDD6-DDAF-4056-9F23-1C2319FA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CAAC-F4C9-4AD2-AD40-970C211A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ADC71-A22E-46E2-9D0D-4071F7E3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35C2D-1065-4AA7-85E2-F93E74AF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964FD-9B80-4F3D-9D0B-2A4E6E9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C78BE-E53C-4F91-9310-3925EA58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1F82B-631F-49EA-BDAC-835C846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925137-DCCE-4933-9E22-4C0956D3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8CAB8-4CBC-4C1D-A3BF-E88D6C6B0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4416-B86E-45DB-BF8F-68C29D0799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C1BE-8C1F-4C54-9A3C-1BAB26E8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F0EA-3C45-427D-85AD-4032D8E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8886-2967-48DC-B33F-FD19A7EB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57AA-D0AB-433E-AEF0-8FB7405B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07DA-FB30-47FA-8588-6641018B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95471-C9AA-44DF-A8F2-80FB3ABE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A9D6-83AA-4EAE-90C5-82906A62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CA8D-5539-4D8F-879F-9E264F42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3433F-2338-4DC9-9E83-16AFD8E3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FE03-1F5F-4B13-B01E-51816A67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7B2C-0DC6-41EB-AB6F-431D1DA1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C82C-6078-462D-9E07-26A3C676E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06DFE-EE68-4D7C-8835-94C4B094D4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561B-08C6-477E-9E63-8E825261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8A66E-713B-40A7-87C0-449DA22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D0826-5904-489F-8EA8-A64D275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E4E6C-A1EE-4029-B345-DBA6B7ED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17E5F-C8B0-491C-A6CE-6F567D0E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E7DDF-C8B0-4E26-8B2B-4D6E312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85126-2B9F-48FC-8087-3B5E8CF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EEBAD-891F-40BE-8BCA-F238CE12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1DB9A-D1A3-4DD8-B9E2-9D018FB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4A437-DBAA-4B8D-9BB6-270C5D49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3AF2F-2F7B-403F-BCEB-0AB3F07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A9AE-8289-427C-8546-7FF3A575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26A5E-D9BA-4C4C-8497-F45A52D0BA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60337-DA24-4DB7-89A1-1D74E0090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895E8-3AC9-4949-B10A-CBB142B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9B595C-C96F-45CF-9CEA-CC06093F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F3FB2-29D6-4261-B30E-C5838AFA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EE05D-08C2-4D6A-84AC-B2432B19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D0AC88-E279-4FFA-A9C1-69A41994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D8B704-E208-41A9-80C8-7596E97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1FD9D-272A-4687-B9EE-61BFE6ED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C22FF6-ED0D-4D42-93A4-A24024F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0085-36A8-4EDE-99E7-5E4E60B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DF91C-A804-441B-9E53-B307F49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8204BA-DF9F-4E2D-82E5-7CD297B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70013-E03F-4B3C-BA0E-49FB7F5DFF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AF61-2275-4CBF-A476-25041F749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FA396-DAB0-4EA0-9CAA-B70CB97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E40B-4CA7-44F5-8FCE-A8D066AA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50D5-8A98-4735-80F0-C88D4DF4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38383-E694-4767-963E-0A6E43E4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38301-A0FE-480B-87A4-93A12BE1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40BB-49DA-4187-AD50-88544A6A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C513-6AF9-4D2C-90BC-963B26BD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0951-0651-47F1-89B4-5AA1E082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F549A-5B1D-4E89-A6BE-F4C4E97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5E77C-AA92-4FE8-8F56-5835DEF0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AF35-E4AC-4334-AFD0-88E8EB1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9CD9-A93A-4098-AE53-AB3063681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525A0-2F44-4F6B-BDDC-8ECBDC9BE3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CA121-C08F-4C2F-A51B-ABC382D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69AD0-770C-4812-AA5D-9FBB23B5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50DDE-48A8-4B7C-8A57-A561EC2E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E111D-D699-48A9-83E8-3D3A815F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BB9B-0BA7-451B-A96A-598BCBD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3B68C-8DCC-4770-B940-1044E1FF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D4B8A-4A07-4173-B41A-388FF1E7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700A4-4FA9-4249-95D7-B8E7CF3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75544-6852-4C14-8610-B686B151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23BDE-01F2-4033-B846-35282267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94ABB-28EA-4972-8FCF-81388B0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928F3-C11E-4704-A33F-6B8FEA8090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9F03DC-18A5-45ED-94CA-34E199013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E31F4B-6F27-4275-BFF2-23D10B0A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0F696-0213-4CAA-855C-38E631D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7CD0-BCF5-44BE-BDAB-57DC183B2F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C99-30D2-4D69-A10C-94AC176488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29B-50D6-4752-9EB7-049931BE4B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2C15-FB60-48FF-B74F-586DAA3FBB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9E02-F93D-40FA-B6BE-DE096E62EE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EE6B-671B-4D7D-A61E-7F3D4E5F50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E4B-9CDA-4CC8-961C-AA17DD5D0F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936-EA97-4A03-8207-C1478B6F16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03E5-D12C-4D5A-A6B0-5BE55C0674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3A74-7536-467E-85F5-7525A60974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8E05-9AA2-435E-A041-3086C70E7EC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E3E-D08F-4623-BA89-0574173DC6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E7A0-0BF1-40EC-8F60-3FFDCC31F0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76A-5975-48F3-93AA-4038AC520C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992-8A38-4B45-B930-2B89F604B7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45FF-F5D8-4291-BBC0-4ED5337BA2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C365-B922-4970-A302-52E035370D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A677-6264-43C8-A7A7-CBC964B6042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820-65A1-4958-80BE-2D89175244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54B-F617-4952-B149-96DC9C98FD1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A27-E054-4888-9E04-30222FC4FC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C55B-B230-4A86-8E10-2864CDC4FA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2B5D-4382-420F-B8EC-41C10A1D2D6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464-A2F8-4849-82DF-62E6F7CBC6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23856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 垂 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9760" y="17445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行四边形和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930240" y="1173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1762200" y="1054080"/>
            <a:ext cx="287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提问：什么叫做垂线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2954160" y="3094200"/>
            <a:ext cx="134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举例说一说生活中的垂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608120" y="4429080"/>
            <a:ext cx="218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怎样画垂线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428840" y="185724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两条直线相交成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直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就说这两条直线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互相垂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其中一条直线叫做另一条直线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垂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Rectangle 21"/>
          <p:cNvSpPr/>
          <p:nvPr/>
        </p:nvSpPr>
        <p:spPr>
          <a:xfrm>
            <a:off x="1599840" y="11592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3102120" y="711360"/>
            <a:ext cx="12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直线上一点画这条直线的垂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4092480" y="1415880"/>
            <a:ext cx="360" cy="2232360"/>
            <a:chOff x="4092480" y="1415880"/>
            <a:chExt cx="360" cy="2232360"/>
          </a:xfrm>
        </p:grpSpPr>
        <p:sp>
          <p:nvSpPr>
            <p:cNvPr id="1028" name="Line 4"/>
            <p:cNvSpPr/>
            <p:nvPr/>
          </p:nvSpPr>
          <p:spPr>
            <a:xfrm>
              <a:off x="4092480" y="1415880"/>
              <a:ext cx="0" cy="2232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 txBox="1"/>
            <p:nvPr/>
          </p:nvSpPr>
          <p:spPr>
            <a:xfrm>
              <a:off x="4092480" y="1415880"/>
              <a:ext cx="360" cy="22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5"/>
          <p:cNvGrpSpPr/>
          <p:nvPr/>
        </p:nvGrpSpPr>
        <p:grpSpPr>
          <a:xfrm>
            <a:off x="4932360" y="1343160"/>
            <a:ext cx="1584360" cy="2305080"/>
            <a:chOff x="4932360" y="1343160"/>
            <a:chExt cx="1584360" cy="2305080"/>
          </a:xfrm>
        </p:grpSpPr>
        <p:sp>
          <p:nvSpPr>
            <p:cNvPr id="1031" name="AutoShape 6"/>
            <p:cNvSpPr/>
            <p:nvPr/>
          </p:nvSpPr>
          <p:spPr>
            <a:xfrm>
              <a:off x="4932360" y="1343160"/>
              <a:ext cx="1584360" cy="2305080"/>
            </a:xfrm>
            <a:prstGeom prst="rtTriangl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7"/>
            <p:cNvSpPr/>
            <p:nvPr/>
          </p:nvSpPr>
          <p:spPr>
            <a:xfrm>
              <a:off x="5139000" y="2111040"/>
              <a:ext cx="896040" cy="12801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8"/>
          <p:cNvGrpSpPr/>
          <p:nvPr/>
        </p:nvGrpSpPr>
        <p:grpSpPr>
          <a:xfrm>
            <a:off x="1892160" y="3575160"/>
            <a:ext cx="4754880" cy="129960"/>
            <a:chOff x="1892160" y="3575160"/>
            <a:chExt cx="4754880" cy="129960"/>
          </a:xfrm>
        </p:grpSpPr>
        <p:grpSp>
          <p:nvGrpSpPr>
            <p:cNvPr id="1034" name=""/>
            <p:cNvGrpSpPr/>
            <p:nvPr/>
          </p:nvGrpSpPr>
          <p:grpSpPr>
            <a:xfrm>
              <a:off x="1892160" y="3640680"/>
              <a:ext cx="4754880" cy="360"/>
              <a:chOff x="1892160" y="3640680"/>
              <a:chExt cx="4754880" cy="360"/>
            </a:xfrm>
          </p:grpSpPr>
          <p:sp>
            <p:nvSpPr>
              <p:cNvPr id="1035" name="Line 9"/>
              <p:cNvSpPr/>
              <p:nvPr/>
            </p:nvSpPr>
            <p:spPr>
              <a:xfrm>
                <a:off x="1892160" y="3640680"/>
                <a:ext cx="47548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1892160" y="3640680"/>
                <a:ext cx="4754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Oval 10"/>
            <p:cNvSpPr/>
            <p:nvPr/>
          </p:nvSpPr>
          <p:spPr>
            <a:xfrm>
              <a:off x="4028040" y="3575160"/>
              <a:ext cx="137880" cy="1299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Text Box 20"/>
          <p:cNvSpPr/>
          <p:nvPr/>
        </p:nvSpPr>
        <p:spPr>
          <a:xfrm>
            <a:off x="2793960" y="30733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垂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21"/>
          <p:cNvGrpSpPr/>
          <p:nvPr/>
        </p:nvGrpSpPr>
        <p:grpSpPr>
          <a:xfrm>
            <a:off x="3803760" y="3285720"/>
            <a:ext cx="288720" cy="362520"/>
            <a:chOff x="3803760" y="3285720"/>
            <a:chExt cx="288720" cy="362520"/>
          </a:xfrm>
        </p:grpSpPr>
        <p:grpSp>
          <p:nvGrpSpPr>
            <p:cNvPr id="1040" name=""/>
            <p:cNvGrpSpPr/>
            <p:nvPr/>
          </p:nvGrpSpPr>
          <p:grpSpPr>
            <a:xfrm>
              <a:off x="3803760" y="3286080"/>
              <a:ext cx="360" cy="362160"/>
              <a:chOff x="3803760" y="3286080"/>
              <a:chExt cx="360" cy="362160"/>
            </a:xfrm>
          </p:grpSpPr>
          <p:sp>
            <p:nvSpPr>
              <p:cNvPr id="1041" name="Line 22"/>
              <p:cNvSpPr/>
              <p:nvPr/>
            </p:nvSpPr>
            <p:spPr>
              <a:xfrm flipV="1">
                <a:off x="3803760" y="3286080"/>
                <a:ext cx="0" cy="362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 rot="16200000">
                <a:off x="3622680" y="3466800"/>
                <a:ext cx="362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3803760" y="3285720"/>
              <a:ext cx="288720" cy="360"/>
              <a:chOff x="3803760" y="3285720"/>
              <a:chExt cx="288720" cy="360"/>
            </a:xfrm>
          </p:grpSpPr>
          <p:sp>
            <p:nvSpPr>
              <p:cNvPr id="1044" name="Line 23"/>
              <p:cNvSpPr/>
              <p:nvPr/>
            </p:nvSpPr>
            <p:spPr>
              <a:xfrm>
                <a:off x="3803760" y="3286080"/>
                <a:ext cx="288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 rot="16200000">
                <a:off x="3947760" y="3141360"/>
                <a:ext cx="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 Box 15"/>
          <p:cNvSpPr/>
          <p:nvPr/>
        </p:nvSpPr>
        <p:spPr>
          <a:xfrm>
            <a:off x="3421440" y="3813120"/>
            <a:ext cx="16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把三角尺的一条直角边与已知直线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6"/>
          <p:cNvSpPr/>
          <p:nvPr/>
        </p:nvSpPr>
        <p:spPr>
          <a:xfrm>
            <a:off x="2029680" y="4446720"/>
            <a:ext cx="52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沿着已知直线移动三角尺，使三角尺的直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顶点与直线上的已知点重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7"/>
          <p:cNvSpPr/>
          <p:nvPr/>
        </p:nvSpPr>
        <p:spPr>
          <a:xfrm>
            <a:off x="1964160" y="5435640"/>
            <a:ext cx="512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楷体简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沿另一条直角边画一条经过已知点的直线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所画直线与已知直线互相垂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八边形 7"/>
          <p:cNvSpPr/>
          <p:nvPr/>
        </p:nvSpPr>
        <p:spPr>
          <a:xfrm>
            <a:off x="314280" y="70812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44 0 L -0.086458 -0.000278 E">
                                      <p:cBhvr>
                                        <p:cTn id="36" dur="20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2"/>
          <p:cNvSpPr/>
          <p:nvPr/>
        </p:nvSpPr>
        <p:spPr>
          <a:xfrm>
            <a:off x="3749760" y="695160"/>
            <a:ext cx="1247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直线外一点画这条直线的垂线，用三角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该怎样画呢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3"/>
          <p:cNvGrpSpPr/>
          <p:nvPr/>
        </p:nvGrpSpPr>
        <p:grpSpPr>
          <a:xfrm>
            <a:off x="1187280" y="2565360"/>
            <a:ext cx="4319640" cy="2088000"/>
            <a:chOff x="1187280" y="2565360"/>
            <a:chExt cx="4319640" cy="2088000"/>
          </a:xfrm>
        </p:grpSpPr>
        <p:sp>
          <p:nvSpPr>
            <p:cNvPr id="1052" name="Oval 4"/>
            <p:cNvSpPr/>
            <p:nvPr/>
          </p:nvSpPr>
          <p:spPr>
            <a:xfrm>
              <a:off x="3130560" y="256536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1187280" y="4653000"/>
              <a:ext cx="4319640" cy="360"/>
              <a:chOff x="1187280" y="4653000"/>
              <a:chExt cx="4319640" cy="360"/>
            </a:xfrm>
          </p:grpSpPr>
          <p:sp>
            <p:nvSpPr>
              <p:cNvPr id="1054" name="Line 5"/>
              <p:cNvSpPr/>
              <p:nvPr/>
            </p:nvSpPr>
            <p:spPr>
              <a:xfrm>
                <a:off x="1187280" y="4653000"/>
                <a:ext cx="4319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1187280" y="4653000"/>
                <a:ext cx="431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6" name="Group 6"/>
          <p:cNvGrpSpPr/>
          <p:nvPr/>
        </p:nvGrpSpPr>
        <p:grpSpPr>
          <a:xfrm>
            <a:off x="3203640" y="2060640"/>
            <a:ext cx="1655640" cy="2592360"/>
            <a:chOff x="3203640" y="2060640"/>
            <a:chExt cx="1655640" cy="2592360"/>
          </a:xfrm>
        </p:grpSpPr>
        <p:sp>
          <p:nvSpPr>
            <p:cNvPr id="1057" name="AutoShape 7"/>
            <p:cNvSpPr/>
            <p:nvPr/>
          </p:nvSpPr>
          <p:spPr>
            <a:xfrm>
              <a:off x="3203640" y="2060640"/>
              <a:ext cx="1655640" cy="259236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8"/>
            <p:cNvSpPr/>
            <p:nvPr/>
          </p:nvSpPr>
          <p:spPr>
            <a:xfrm>
              <a:off x="3419640" y="2924280"/>
              <a:ext cx="936360" cy="144000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205080" y="2637000"/>
            <a:ext cx="1800" cy="2017440"/>
            <a:chOff x="3205080" y="2637000"/>
            <a:chExt cx="1800" cy="2017440"/>
          </a:xfrm>
        </p:grpSpPr>
        <p:sp>
          <p:nvSpPr>
            <p:cNvPr id="1060" name="Line 11"/>
            <p:cNvSpPr/>
            <p:nvPr/>
          </p:nvSpPr>
          <p:spPr>
            <a:xfrm>
              <a:off x="3205080" y="2637000"/>
              <a:ext cx="1800" cy="20174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3205080" y="2637000"/>
              <a:ext cx="1800" cy="201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10"/>
          <p:cNvGrpSpPr/>
          <p:nvPr/>
        </p:nvGrpSpPr>
        <p:grpSpPr>
          <a:xfrm>
            <a:off x="4568760" y="2104920"/>
            <a:ext cx="3748320" cy="1427400"/>
            <a:chOff x="4568760" y="2104920"/>
            <a:chExt cx="3748320" cy="1427400"/>
          </a:xfrm>
        </p:grpSpPr>
        <p:pic>
          <p:nvPicPr>
            <p:cNvPr id="1063" name="Picture 11" descr="000"/>
            <p:cNvPicPr/>
            <p:nvPr/>
          </p:nvPicPr>
          <p:blipFill>
            <a:blip r:embed="rId1"/>
            <a:stretch/>
          </p:blipFill>
          <p:spPr>
            <a:xfrm>
              <a:off x="7308360" y="2421000"/>
              <a:ext cx="100872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Text Box 12"/>
            <p:cNvSpPr/>
            <p:nvPr/>
          </p:nvSpPr>
          <p:spPr>
            <a:xfrm>
              <a:off x="5712480" y="210492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说一说是怎么画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13"/>
            <p:cNvSpPr/>
            <p:nvPr/>
          </p:nvSpPr>
          <p:spPr>
            <a:xfrm>
              <a:off x="4568760" y="2104920"/>
              <a:ext cx="2881440" cy="504000"/>
            </a:xfrm>
            <a:prstGeom prst="wedgeRoundRectCallout">
              <a:avLst>
                <a:gd name="adj1" fmla="val 43935"/>
                <a:gd name="adj2" fmla="val 7821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2" descr="E:\2017秋上·黄倩\其他\人\蜜蜂.gif蜜蜂"/>
          <p:cNvPicPr/>
          <p:nvPr/>
        </p:nvPicPr>
        <p:blipFill>
          <a:blip r:embed="rId1"/>
          <a:stretch/>
        </p:blipFill>
        <p:spPr>
          <a:xfrm>
            <a:off x="7802640" y="3138480"/>
            <a:ext cx="743040" cy="81900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3"/>
          <p:cNvSpPr/>
          <p:nvPr/>
        </p:nvSpPr>
        <p:spPr>
          <a:xfrm>
            <a:off x="3518640" y="838080"/>
            <a:ext cx="185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从直线外一点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，到这条直线画几条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量一量所画线段的长度，哪一条最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552680" y="4289400"/>
            <a:ext cx="3240000" cy="360"/>
            <a:chOff x="1552680" y="4289400"/>
            <a:chExt cx="3240000" cy="360"/>
          </a:xfrm>
        </p:grpSpPr>
        <p:sp>
          <p:nvSpPr>
            <p:cNvPr id="1069" name="Line 4"/>
            <p:cNvSpPr/>
            <p:nvPr/>
          </p:nvSpPr>
          <p:spPr>
            <a:xfrm>
              <a:off x="1552680" y="428940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1552680" y="4289400"/>
              <a:ext cx="32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Oval 5"/>
          <p:cNvSpPr/>
          <p:nvPr/>
        </p:nvSpPr>
        <p:spPr>
          <a:xfrm flipV="1">
            <a:off x="2975040" y="2717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6"/>
          <p:cNvGrpSpPr/>
          <p:nvPr/>
        </p:nvGrpSpPr>
        <p:grpSpPr>
          <a:xfrm>
            <a:off x="2055600" y="2755800"/>
            <a:ext cx="2408400" cy="1533600"/>
            <a:chOff x="2055600" y="2755800"/>
            <a:chExt cx="2408400" cy="1533600"/>
          </a:xfrm>
        </p:grpSpPr>
        <p:grpSp>
          <p:nvGrpSpPr>
            <p:cNvPr id="1073" name=""/>
            <p:cNvGrpSpPr/>
            <p:nvPr/>
          </p:nvGrpSpPr>
          <p:grpSpPr>
            <a:xfrm>
              <a:off x="2055600" y="2759400"/>
              <a:ext cx="948960" cy="1529280"/>
              <a:chOff x="2055600" y="2759400"/>
              <a:chExt cx="948960" cy="1529280"/>
            </a:xfrm>
          </p:grpSpPr>
          <p:sp>
            <p:nvSpPr>
              <p:cNvPr id="1074" name="Line 7"/>
              <p:cNvSpPr/>
              <p:nvPr/>
            </p:nvSpPr>
            <p:spPr>
              <a:xfrm flipH="1">
                <a:off x="2055600" y="2759400"/>
                <a:ext cx="948600" cy="152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2055960" y="2759400"/>
                <a:ext cx="948600" cy="152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3011400" y="2755800"/>
              <a:ext cx="719640" cy="1533240"/>
              <a:chOff x="3011400" y="2755800"/>
              <a:chExt cx="719640" cy="1533240"/>
            </a:xfrm>
          </p:grpSpPr>
          <p:sp>
            <p:nvSpPr>
              <p:cNvPr id="1077" name="Line 8"/>
              <p:cNvSpPr/>
              <p:nvPr/>
            </p:nvSpPr>
            <p:spPr>
              <a:xfrm>
                <a:off x="3011400" y="2755800"/>
                <a:ext cx="719640" cy="153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3011400" y="2755800"/>
                <a:ext cx="719640" cy="153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3025440" y="2756880"/>
              <a:ext cx="1438560" cy="1532520"/>
              <a:chOff x="3025440" y="2756880"/>
              <a:chExt cx="1438560" cy="1532520"/>
            </a:xfrm>
          </p:grpSpPr>
          <p:sp>
            <p:nvSpPr>
              <p:cNvPr id="1080" name="Line 9"/>
              <p:cNvSpPr/>
              <p:nvPr/>
            </p:nvSpPr>
            <p:spPr>
              <a:xfrm>
                <a:off x="3025440" y="2756880"/>
                <a:ext cx="1438560" cy="153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 txBox="1"/>
              <p:nvPr/>
            </p:nvSpPr>
            <p:spPr>
              <a:xfrm>
                <a:off x="3025440" y="2756880"/>
                <a:ext cx="1438560" cy="153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007800" y="2776680"/>
              <a:ext cx="720" cy="1510920"/>
              <a:chOff x="3007800" y="2776680"/>
              <a:chExt cx="720" cy="1510920"/>
            </a:xfrm>
          </p:grpSpPr>
          <p:sp>
            <p:nvSpPr>
              <p:cNvPr id="1083" name="Line 10"/>
              <p:cNvSpPr/>
              <p:nvPr/>
            </p:nvSpPr>
            <p:spPr>
              <a:xfrm flipV="1">
                <a:off x="3008160" y="2776680"/>
                <a:ext cx="360" cy="151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 txBox="1"/>
              <p:nvPr/>
            </p:nvSpPr>
            <p:spPr>
              <a:xfrm rot="10800000">
                <a:off x="3007800" y="2776680"/>
                <a:ext cx="360" cy="151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5" name="Group 11"/>
          <p:cNvGrpSpPr/>
          <p:nvPr/>
        </p:nvGrpSpPr>
        <p:grpSpPr>
          <a:xfrm>
            <a:off x="3019320" y="4146480"/>
            <a:ext cx="142920" cy="142920"/>
            <a:chOff x="3019320" y="4146480"/>
            <a:chExt cx="142920" cy="142920"/>
          </a:xfrm>
        </p:grpSpPr>
        <p:grpSp>
          <p:nvGrpSpPr>
            <p:cNvPr id="1086" name=""/>
            <p:cNvGrpSpPr/>
            <p:nvPr/>
          </p:nvGrpSpPr>
          <p:grpSpPr>
            <a:xfrm>
              <a:off x="3019320" y="4146480"/>
              <a:ext cx="142920" cy="360"/>
              <a:chOff x="3019320" y="4146480"/>
              <a:chExt cx="142920" cy="360"/>
            </a:xfrm>
          </p:grpSpPr>
          <p:sp>
            <p:nvSpPr>
              <p:cNvPr id="1087" name="Line 12"/>
              <p:cNvSpPr/>
              <p:nvPr/>
            </p:nvSpPr>
            <p:spPr>
              <a:xfrm>
                <a:off x="3019320" y="4146480"/>
                <a:ext cx="142920" cy="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 txBox="1"/>
              <p:nvPr/>
            </p:nvSpPr>
            <p:spPr>
              <a:xfrm>
                <a:off x="3019320" y="41464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152880" y="4146480"/>
              <a:ext cx="360" cy="142920"/>
              <a:chOff x="3152880" y="4146480"/>
              <a:chExt cx="360" cy="142920"/>
            </a:xfrm>
          </p:grpSpPr>
          <p:sp>
            <p:nvSpPr>
              <p:cNvPr id="1090" name="Line 13"/>
              <p:cNvSpPr/>
              <p:nvPr/>
            </p:nvSpPr>
            <p:spPr>
              <a:xfrm>
                <a:off x="3152880" y="4146480"/>
                <a:ext cx="360" cy="142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 txBox="1"/>
              <p:nvPr/>
            </p:nvSpPr>
            <p:spPr>
              <a:xfrm>
                <a:off x="3152880" y="4146480"/>
                <a:ext cx="36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2" name="Group 14"/>
          <p:cNvGrpSpPr/>
          <p:nvPr/>
        </p:nvGrpSpPr>
        <p:grpSpPr>
          <a:xfrm>
            <a:off x="4606920" y="2449440"/>
            <a:ext cx="2876040" cy="520560"/>
            <a:chOff x="4606920" y="2449440"/>
            <a:chExt cx="2876040" cy="520560"/>
          </a:xfrm>
        </p:grpSpPr>
        <p:sp>
          <p:nvSpPr>
            <p:cNvPr id="1093" name="Text Box 15"/>
            <p:cNvSpPr/>
            <p:nvPr/>
          </p:nvSpPr>
          <p:spPr>
            <a:xfrm>
              <a:off x="6954840" y="244944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线段最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606920" y="2904840"/>
              <a:ext cx="1511640" cy="360"/>
              <a:chOff x="4606920" y="2904840"/>
              <a:chExt cx="1511640" cy="360"/>
            </a:xfrm>
          </p:grpSpPr>
          <p:sp>
            <p:nvSpPr>
              <p:cNvPr id="1095" name="Line 16"/>
              <p:cNvSpPr/>
              <p:nvPr/>
            </p:nvSpPr>
            <p:spPr>
              <a:xfrm>
                <a:off x="4606920" y="2904840"/>
                <a:ext cx="151164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 txBox="1"/>
              <p:nvPr/>
            </p:nvSpPr>
            <p:spPr>
              <a:xfrm>
                <a:off x="4606920" y="2904840"/>
                <a:ext cx="151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7" name="AutoShape 17"/>
          <p:cNvSpPr/>
          <p:nvPr/>
        </p:nvSpPr>
        <p:spPr>
          <a:xfrm>
            <a:off x="4429080" y="2346480"/>
            <a:ext cx="3743280" cy="720720"/>
          </a:xfrm>
          <a:prstGeom prst="wedgeRoundRectCallout">
            <a:avLst>
              <a:gd name="adj1" fmla="val 38685"/>
              <a:gd name="adj2" fmla="val 788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8"/>
          <p:cNvSpPr/>
          <p:nvPr/>
        </p:nvSpPr>
        <p:spPr>
          <a:xfrm>
            <a:off x="2809440" y="2239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9"/>
          <p:cNvSpPr/>
          <p:nvPr/>
        </p:nvSpPr>
        <p:spPr>
          <a:xfrm>
            <a:off x="2049120" y="4819680"/>
            <a:ext cx="4798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结论：从直线外一点到这条直线所画的垂直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最短，它的长度叫做这点到直线的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2"/>
          <p:cNvSpPr/>
          <p:nvPr/>
        </p:nvSpPr>
        <p:spPr>
          <a:xfrm>
            <a:off x="5031000" y="2430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八边形 7"/>
          <p:cNvSpPr/>
          <p:nvPr/>
        </p:nvSpPr>
        <p:spPr>
          <a:xfrm>
            <a:off x="314280" y="85104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2"/>
          <p:cNvSpPr/>
          <p:nvPr/>
        </p:nvSpPr>
        <p:spPr>
          <a:xfrm>
            <a:off x="1954080" y="695160"/>
            <a:ext cx="5769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下图中，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∥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在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任选几个点，分别向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画垂直的线段。量一量这些线段的长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宋体"/>
              </a:rPr>
              <a:t>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Group 3"/>
          <p:cNvGrpSpPr/>
          <p:nvPr/>
        </p:nvGrpSpPr>
        <p:grpSpPr>
          <a:xfrm>
            <a:off x="2982960" y="2278080"/>
            <a:ext cx="2971440" cy="2005560"/>
            <a:chOff x="2982960" y="2278080"/>
            <a:chExt cx="2971440" cy="2005560"/>
          </a:xfrm>
        </p:grpSpPr>
        <p:grpSp>
          <p:nvGrpSpPr>
            <p:cNvPr id="1104" name=""/>
            <p:cNvGrpSpPr/>
            <p:nvPr/>
          </p:nvGrpSpPr>
          <p:grpSpPr>
            <a:xfrm>
              <a:off x="2982960" y="2780280"/>
              <a:ext cx="2952000" cy="720"/>
              <a:chOff x="2982960" y="2780280"/>
              <a:chExt cx="2952000" cy="720"/>
            </a:xfrm>
          </p:grpSpPr>
          <p:sp>
            <p:nvSpPr>
              <p:cNvPr id="1105" name="Line 4"/>
              <p:cNvSpPr/>
              <p:nvPr/>
            </p:nvSpPr>
            <p:spPr>
              <a:xfrm>
                <a:off x="2982960" y="2780280"/>
                <a:ext cx="295200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 txBox="1"/>
              <p:nvPr/>
            </p:nvSpPr>
            <p:spPr>
              <a:xfrm>
                <a:off x="2982960" y="2780280"/>
                <a:ext cx="29520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002400" y="3843360"/>
              <a:ext cx="2952000" cy="360"/>
              <a:chOff x="3002400" y="3843360"/>
              <a:chExt cx="2952000" cy="360"/>
            </a:xfrm>
          </p:grpSpPr>
          <p:sp>
            <p:nvSpPr>
              <p:cNvPr id="1108" name="Line 5"/>
              <p:cNvSpPr/>
              <p:nvPr/>
            </p:nvSpPr>
            <p:spPr>
              <a:xfrm>
                <a:off x="3002400" y="3843360"/>
                <a:ext cx="29520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3002400" y="3843360"/>
                <a:ext cx="295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Text Box 6"/>
            <p:cNvSpPr/>
            <p:nvPr/>
          </p:nvSpPr>
          <p:spPr>
            <a:xfrm>
              <a:off x="4200120" y="2278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EU-B1X"/>
                  <a:ea typeface="EU-B1X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7"/>
            <p:cNvSpPr/>
            <p:nvPr/>
          </p:nvSpPr>
          <p:spPr>
            <a:xfrm>
              <a:off x="4218480" y="376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EU-B1X"/>
                  <a:ea typeface="EU-B1X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8"/>
          <p:cNvGrpSpPr/>
          <p:nvPr/>
        </p:nvGrpSpPr>
        <p:grpSpPr>
          <a:xfrm>
            <a:off x="3343320" y="2779560"/>
            <a:ext cx="2173320" cy="1073160"/>
            <a:chOff x="3343320" y="2779560"/>
            <a:chExt cx="2173320" cy="1073160"/>
          </a:xfrm>
        </p:grpSpPr>
        <p:grpSp>
          <p:nvGrpSpPr>
            <p:cNvPr id="1113" name=""/>
            <p:cNvGrpSpPr/>
            <p:nvPr/>
          </p:nvGrpSpPr>
          <p:grpSpPr>
            <a:xfrm>
              <a:off x="3343320" y="2779920"/>
              <a:ext cx="360" cy="1063080"/>
              <a:chOff x="3343320" y="2779920"/>
              <a:chExt cx="360" cy="1063080"/>
            </a:xfrm>
          </p:grpSpPr>
          <p:sp>
            <p:nvSpPr>
              <p:cNvPr id="1114" name="Line 9"/>
              <p:cNvSpPr/>
              <p:nvPr/>
            </p:nvSpPr>
            <p:spPr>
              <a:xfrm>
                <a:off x="3343320" y="277992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 txBox="1"/>
              <p:nvPr/>
            </p:nvSpPr>
            <p:spPr>
              <a:xfrm>
                <a:off x="3343320" y="277992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3762360" y="2789640"/>
              <a:ext cx="720" cy="1063080"/>
              <a:chOff x="3762360" y="2789640"/>
              <a:chExt cx="720" cy="1063080"/>
            </a:xfrm>
          </p:grpSpPr>
          <p:sp>
            <p:nvSpPr>
              <p:cNvPr id="1117" name="Line 10"/>
              <p:cNvSpPr/>
              <p:nvPr/>
            </p:nvSpPr>
            <p:spPr>
              <a:xfrm>
                <a:off x="3762360" y="2789640"/>
                <a:ext cx="7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 txBox="1"/>
              <p:nvPr/>
            </p:nvSpPr>
            <p:spPr>
              <a:xfrm>
                <a:off x="3762360" y="2789640"/>
                <a:ext cx="72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190760" y="2789640"/>
              <a:ext cx="360" cy="1063080"/>
              <a:chOff x="4190760" y="2789640"/>
              <a:chExt cx="360" cy="1063080"/>
            </a:xfrm>
          </p:grpSpPr>
          <p:sp>
            <p:nvSpPr>
              <p:cNvPr id="1120" name="Line 11"/>
              <p:cNvSpPr/>
              <p:nvPr/>
            </p:nvSpPr>
            <p:spPr>
              <a:xfrm>
                <a:off x="4190760" y="278964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 txBox="1"/>
              <p:nvPr/>
            </p:nvSpPr>
            <p:spPr>
              <a:xfrm>
                <a:off x="4190760" y="278964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4640040" y="2779560"/>
              <a:ext cx="360" cy="1063080"/>
              <a:chOff x="4640040" y="2779560"/>
              <a:chExt cx="360" cy="1063080"/>
            </a:xfrm>
          </p:grpSpPr>
          <p:sp>
            <p:nvSpPr>
              <p:cNvPr id="1123" name="Line 12"/>
              <p:cNvSpPr/>
              <p:nvPr/>
            </p:nvSpPr>
            <p:spPr>
              <a:xfrm>
                <a:off x="4640040" y="277956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 txBox="1"/>
              <p:nvPr/>
            </p:nvSpPr>
            <p:spPr>
              <a:xfrm>
                <a:off x="4640040" y="277956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5068440" y="2779560"/>
              <a:ext cx="720" cy="1063080"/>
              <a:chOff x="5068440" y="2779560"/>
              <a:chExt cx="720" cy="1063080"/>
            </a:xfrm>
          </p:grpSpPr>
          <p:sp>
            <p:nvSpPr>
              <p:cNvPr id="1126" name="Line 13"/>
              <p:cNvSpPr/>
              <p:nvPr/>
            </p:nvSpPr>
            <p:spPr>
              <a:xfrm>
                <a:off x="5068440" y="2779560"/>
                <a:ext cx="72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 txBox="1"/>
              <p:nvPr/>
            </p:nvSpPr>
            <p:spPr>
              <a:xfrm>
                <a:off x="5068440" y="2779560"/>
                <a:ext cx="72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5516280" y="2779560"/>
              <a:ext cx="360" cy="1063080"/>
              <a:chOff x="5516280" y="2779560"/>
              <a:chExt cx="360" cy="1063080"/>
            </a:xfrm>
          </p:grpSpPr>
          <p:sp>
            <p:nvSpPr>
              <p:cNvPr id="1129" name="Line 14"/>
              <p:cNvSpPr/>
              <p:nvPr/>
            </p:nvSpPr>
            <p:spPr>
              <a:xfrm>
                <a:off x="5516280" y="2779560"/>
                <a:ext cx="360" cy="106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 txBox="1"/>
              <p:nvPr/>
            </p:nvSpPr>
            <p:spPr>
              <a:xfrm>
                <a:off x="5516280" y="2779560"/>
                <a:ext cx="360" cy="106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1" name="Group 15"/>
          <p:cNvGrpSpPr/>
          <p:nvPr/>
        </p:nvGrpSpPr>
        <p:grpSpPr>
          <a:xfrm>
            <a:off x="3346560" y="3693960"/>
            <a:ext cx="2317320" cy="149040"/>
            <a:chOff x="3346560" y="3693960"/>
            <a:chExt cx="2317320" cy="149040"/>
          </a:xfrm>
        </p:grpSpPr>
        <p:grpSp>
          <p:nvGrpSpPr>
            <p:cNvPr id="1132" name="Group 16"/>
            <p:cNvGrpSpPr/>
            <p:nvPr/>
          </p:nvGrpSpPr>
          <p:grpSpPr>
            <a:xfrm>
              <a:off x="3346560" y="3693960"/>
              <a:ext cx="142560" cy="142920"/>
              <a:chOff x="3346560" y="3693960"/>
              <a:chExt cx="142560" cy="14292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3346560" y="3693960"/>
                <a:ext cx="142560" cy="360"/>
                <a:chOff x="3346560" y="3693960"/>
                <a:chExt cx="142560" cy="360"/>
              </a:xfrm>
            </p:grpSpPr>
            <p:sp>
              <p:nvSpPr>
                <p:cNvPr id="1134" name="Line 17"/>
                <p:cNvSpPr/>
                <p:nvPr/>
              </p:nvSpPr>
              <p:spPr>
                <a:xfrm>
                  <a:off x="3346560" y="369396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 txBox="1"/>
                <p:nvPr/>
              </p:nvSpPr>
              <p:spPr>
                <a:xfrm>
                  <a:off x="3346560" y="36939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3479760" y="3693960"/>
                <a:ext cx="360" cy="142920"/>
                <a:chOff x="3479760" y="3693960"/>
                <a:chExt cx="360" cy="142920"/>
              </a:xfrm>
            </p:grpSpPr>
            <p:sp>
              <p:nvSpPr>
                <p:cNvPr id="1137" name="Line 18"/>
                <p:cNvSpPr/>
                <p:nvPr/>
              </p:nvSpPr>
              <p:spPr>
                <a:xfrm>
                  <a:off x="3479760" y="369396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3479760" y="369396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Group 19"/>
            <p:cNvGrpSpPr/>
            <p:nvPr/>
          </p:nvGrpSpPr>
          <p:grpSpPr>
            <a:xfrm>
              <a:off x="3755880" y="3693960"/>
              <a:ext cx="142560" cy="142920"/>
              <a:chOff x="3755880" y="3693960"/>
              <a:chExt cx="142560" cy="142920"/>
            </a:xfrm>
          </p:grpSpPr>
          <p:grpSp>
            <p:nvGrpSpPr>
              <p:cNvPr id="1140" name=""/>
              <p:cNvGrpSpPr/>
              <p:nvPr/>
            </p:nvGrpSpPr>
            <p:grpSpPr>
              <a:xfrm>
                <a:off x="3755880" y="3693960"/>
                <a:ext cx="142560" cy="360"/>
                <a:chOff x="3755880" y="3693960"/>
                <a:chExt cx="142560" cy="360"/>
              </a:xfrm>
            </p:grpSpPr>
            <p:sp>
              <p:nvSpPr>
                <p:cNvPr id="1141" name="Line 20"/>
                <p:cNvSpPr/>
                <p:nvPr/>
              </p:nvSpPr>
              <p:spPr>
                <a:xfrm>
                  <a:off x="3755880" y="369396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>
                  <a:off x="3755880" y="36939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889080" y="3693960"/>
                <a:ext cx="360" cy="142920"/>
                <a:chOff x="3889080" y="3693960"/>
                <a:chExt cx="360" cy="142920"/>
              </a:xfrm>
            </p:grpSpPr>
            <p:sp>
              <p:nvSpPr>
                <p:cNvPr id="1144" name="Line 21"/>
                <p:cNvSpPr/>
                <p:nvPr/>
              </p:nvSpPr>
              <p:spPr>
                <a:xfrm>
                  <a:off x="3889080" y="369396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 txBox="1"/>
                <p:nvPr/>
              </p:nvSpPr>
              <p:spPr>
                <a:xfrm>
                  <a:off x="3889080" y="369396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6" name="Group 22"/>
            <p:cNvGrpSpPr/>
            <p:nvPr/>
          </p:nvGrpSpPr>
          <p:grpSpPr>
            <a:xfrm>
              <a:off x="4184640" y="3696840"/>
              <a:ext cx="142560" cy="142920"/>
              <a:chOff x="4184640" y="3696840"/>
              <a:chExt cx="142560" cy="14292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4184640" y="3696840"/>
                <a:ext cx="142560" cy="360"/>
                <a:chOff x="4184640" y="3696840"/>
                <a:chExt cx="142560" cy="360"/>
              </a:xfrm>
            </p:grpSpPr>
            <p:sp>
              <p:nvSpPr>
                <p:cNvPr id="1148" name="Line 23"/>
                <p:cNvSpPr/>
                <p:nvPr/>
              </p:nvSpPr>
              <p:spPr>
                <a:xfrm>
                  <a:off x="4184640" y="369684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 txBox="1"/>
                <p:nvPr/>
              </p:nvSpPr>
              <p:spPr>
                <a:xfrm>
                  <a:off x="4184640" y="36968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4317840" y="3696840"/>
                <a:ext cx="360" cy="142920"/>
                <a:chOff x="4317840" y="3696840"/>
                <a:chExt cx="360" cy="142920"/>
              </a:xfrm>
            </p:grpSpPr>
            <p:sp>
              <p:nvSpPr>
                <p:cNvPr id="1151" name="Line 24"/>
                <p:cNvSpPr/>
                <p:nvPr/>
              </p:nvSpPr>
              <p:spPr>
                <a:xfrm>
                  <a:off x="4317840" y="369684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 txBox="1"/>
                <p:nvPr/>
              </p:nvSpPr>
              <p:spPr>
                <a:xfrm>
                  <a:off x="4317840" y="369684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3" name="Group 25"/>
            <p:cNvGrpSpPr/>
            <p:nvPr/>
          </p:nvGrpSpPr>
          <p:grpSpPr>
            <a:xfrm>
              <a:off x="4632480" y="3700080"/>
              <a:ext cx="142560" cy="142920"/>
              <a:chOff x="4632480" y="3700080"/>
              <a:chExt cx="142560" cy="14292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4632480" y="3700080"/>
                <a:ext cx="142560" cy="360"/>
                <a:chOff x="4632480" y="3700080"/>
                <a:chExt cx="142560" cy="360"/>
              </a:xfrm>
            </p:grpSpPr>
            <p:sp>
              <p:nvSpPr>
                <p:cNvPr id="1155" name="Line 26"/>
                <p:cNvSpPr/>
                <p:nvPr/>
              </p:nvSpPr>
              <p:spPr>
                <a:xfrm>
                  <a:off x="4632480" y="370008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4632480" y="370008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4765680" y="3700080"/>
                <a:ext cx="360" cy="142920"/>
                <a:chOff x="4765680" y="3700080"/>
                <a:chExt cx="360" cy="142920"/>
              </a:xfrm>
            </p:grpSpPr>
            <p:sp>
              <p:nvSpPr>
                <p:cNvPr id="1158" name="Line 27"/>
                <p:cNvSpPr/>
                <p:nvPr/>
              </p:nvSpPr>
              <p:spPr>
                <a:xfrm>
                  <a:off x="4765680" y="370008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>
                  <a:off x="4765680" y="370008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28"/>
            <p:cNvGrpSpPr/>
            <p:nvPr/>
          </p:nvGrpSpPr>
          <p:grpSpPr>
            <a:xfrm>
              <a:off x="5070600" y="3693960"/>
              <a:ext cx="142920" cy="142920"/>
              <a:chOff x="5070600" y="3693960"/>
              <a:chExt cx="142920" cy="142920"/>
            </a:xfrm>
          </p:grpSpPr>
          <p:grpSp>
            <p:nvGrpSpPr>
              <p:cNvPr id="1161" name=""/>
              <p:cNvGrpSpPr/>
              <p:nvPr/>
            </p:nvGrpSpPr>
            <p:grpSpPr>
              <a:xfrm>
                <a:off x="5070600" y="3693960"/>
                <a:ext cx="142920" cy="360"/>
                <a:chOff x="5070600" y="3693960"/>
                <a:chExt cx="142920" cy="360"/>
              </a:xfrm>
            </p:grpSpPr>
            <p:sp>
              <p:nvSpPr>
                <p:cNvPr id="1162" name="Line 29"/>
                <p:cNvSpPr/>
                <p:nvPr/>
              </p:nvSpPr>
              <p:spPr>
                <a:xfrm>
                  <a:off x="5070600" y="3693960"/>
                  <a:ext cx="14292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 txBox="1"/>
                <p:nvPr/>
              </p:nvSpPr>
              <p:spPr>
                <a:xfrm>
                  <a:off x="5070600" y="3693960"/>
                  <a:ext cx="142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5204160" y="3693960"/>
                <a:ext cx="360" cy="142920"/>
                <a:chOff x="5204160" y="3693960"/>
                <a:chExt cx="360" cy="142920"/>
              </a:xfrm>
            </p:grpSpPr>
            <p:sp>
              <p:nvSpPr>
                <p:cNvPr id="1165" name="Line 30"/>
                <p:cNvSpPr/>
                <p:nvPr/>
              </p:nvSpPr>
              <p:spPr>
                <a:xfrm>
                  <a:off x="5204160" y="369396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 txBox="1"/>
                <p:nvPr/>
              </p:nvSpPr>
              <p:spPr>
                <a:xfrm>
                  <a:off x="5204160" y="369396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7" name="Group 31"/>
            <p:cNvGrpSpPr/>
            <p:nvPr/>
          </p:nvGrpSpPr>
          <p:grpSpPr>
            <a:xfrm>
              <a:off x="5521320" y="3696840"/>
              <a:ext cx="142560" cy="142920"/>
              <a:chOff x="5521320" y="3696840"/>
              <a:chExt cx="142560" cy="14292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5521320" y="3696840"/>
                <a:ext cx="142560" cy="360"/>
                <a:chOff x="5521320" y="3696840"/>
                <a:chExt cx="142560" cy="360"/>
              </a:xfrm>
            </p:grpSpPr>
            <p:sp>
              <p:nvSpPr>
                <p:cNvPr id="1169" name="Line 32"/>
                <p:cNvSpPr/>
                <p:nvPr/>
              </p:nvSpPr>
              <p:spPr>
                <a:xfrm>
                  <a:off x="5521320" y="3696840"/>
                  <a:ext cx="142560" cy="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 txBox="1"/>
                <p:nvPr/>
              </p:nvSpPr>
              <p:spPr>
                <a:xfrm>
                  <a:off x="5521320" y="36968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5654520" y="3696840"/>
                <a:ext cx="360" cy="142920"/>
                <a:chOff x="5654520" y="3696840"/>
                <a:chExt cx="360" cy="142920"/>
              </a:xfrm>
            </p:grpSpPr>
            <p:sp>
              <p:nvSpPr>
                <p:cNvPr id="1172" name="Line 33"/>
                <p:cNvSpPr/>
                <p:nvPr/>
              </p:nvSpPr>
              <p:spPr>
                <a:xfrm>
                  <a:off x="5654520" y="3696840"/>
                  <a:ext cx="360" cy="14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 txBox="1"/>
                <p:nvPr/>
              </p:nvSpPr>
              <p:spPr>
                <a:xfrm>
                  <a:off x="5654520" y="3696840"/>
                  <a:ext cx="36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4" name="Group 34"/>
          <p:cNvGrpSpPr/>
          <p:nvPr/>
        </p:nvGrpSpPr>
        <p:grpSpPr>
          <a:xfrm>
            <a:off x="2052720" y="4292640"/>
            <a:ext cx="6113520" cy="1962000"/>
            <a:chOff x="2052720" y="4292640"/>
            <a:chExt cx="6113520" cy="1962000"/>
          </a:xfrm>
        </p:grpSpPr>
        <p:pic>
          <p:nvPicPr>
            <p:cNvPr id="1175" name="Picture 35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301520" y="5301720"/>
              <a:ext cx="864720" cy="95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6" name="Group 36"/>
            <p:cNvGrpSpPr/>
            <p:nvPr/>
          </p:nvGrpSpPr>
          <p:grpSpPr>
            <a:xfrm>
              <a:off x="3024360" y="4365000"/>
              <a:ext cx="3885840" cy="898200"/>
              <a:chOff x="3024360" y="4365000"/>
              <a:chExt cx="3885840" cy="898200"/>
            </a:xfrm>
          </p:grpSpPr>
          <p:sp>
            <p:nvSpPr>
              <p:cNvPr id="1177" name="Text Box 37"/>
              <p:cNvSpPr/>
              <p:nvPr/>
            </p:nvSpPr>
            <p:spPr>
              <a:xfrm>
                <a:off x="3024360" y="4365000"/>
                <a:ext cx="3643200" cy="89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端点分别在两条平行线上，且与平行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垂直的所有线段的长度都            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5614560" y="5157360"/>
                <a:ext cx="1295640" cy="360"/>
                <a:chOff x="5614560" y="5157360"/>
                <a:chExt cx="1295640" cy="360"/>
              </a:xfrm>
            </p:grpSpPr>
            <p:sp>
              <p:nvSpPr>
                <p:cNvPr id="1179" name="Line 38"/>
                <p:cNvSpPr/>
                <p:nvPr/>
              </p:nvSpPr>
              <p:spPr>
                <a:xfrm>
                  <a:off x="5614560" y="5157360"/>
                  <a:ext cx="129564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>
                  <a:off x="5614560" y="5157360"/>
                  <a:ext cx="129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1" name="AutoShape 39"/>
            <p:cNvSpPr/>
            <p:nvPr/>
          </p:nvSpPr>
          <p:spPr>
            <a:xfrm>
              <a:off x="2052720" y="4292640"/>
              <a:ext cx="5543280" cy="1009080"/>
            </a:xfrm>
            <a:prstGeom prst="wedgeRoundRectCallout">
              <a:avLst>
                <a:gd name="adj1" fmla="val 44046"/>
                <a:gd name="adj2" fmla="val 76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Text Box 32"/>
          <p:cNvSpPr/>
          <p:nvPr/>
        </p:nvSpPr>
        <p:spPr>
          <a:xfrm>
            <a:off x="5870160" y="473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5"/>
          <p:cNvSpPr/>
          <p:nvPr/>
        </p:nvSpPr>
        <p:spPr>
          <a:xfrm>
            <a:off x="1685880" y="1125360"/>
            <a:ext cx="3531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右图中，小明如果从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路，怎样走路线最短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最短的路线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6"/>
          <p:cNvGrpSpPr/>
          <p:nvPr/>
        </p:nvGrpSpPr>
        <p:grpSpPr>
          <a:xfrm>
            <a:off x="6516720" y="1270080"/>
            <a:ext cx="1665360" cy="1842480"/>
            <a:chOff x="6516720" y="1270080"/>
            <a:chExt cx="1665360" cy="1842480"/>
          </a:xfrm>
        </p:grpSpPr>
        <p:grpSp>
          <p:nvGrpSpPr>
            <p:cNvPr id="1185" name=""/>
            <p:cNvGrpSpPr/>
            <p:nvPr/>
          </p:nvGrpSpPr>
          <p:grpSpPr>
            <a:xfrm>
              <a:off x="6516720" y="1270080"/>
              <a:ext cx="1656000" cy="360"/>
              <a:chOff x="6516720" y="1270080"/>
              <a:chExt cx="1656000" cy="360"/>
            </a:xfrm>
          </p:grpSpPr>
          <p:sp>
            <p:nvSpPr>
              <p:cNvPr id="1186" name="Line 7"/>
              <p:cNvSpPr/>
              <p:nvPr/>
            </p:nvSpPr>
            <p:spPr>
              <a:xfrm>
                <a:off x="6516720" y="1270080"/>
                <a:ext cx="16560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6516720" y="1270080"/>
                <a:ext cx="16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6526080" y="2651760"/>
              <a:ext cx="1656000" cy="360"/>
              <a:chOff x="6526080" y="2651760"/>
              <a:chExt cx="1656000" cy="360"/>
            </a:xfrm>
          </p:grpSpPr>
          <p:sp>
            <p:nvSpPr>
              <p:cNvPr id="1189" name="Line 8"/>
              <p:cNvSpPr/>
              <p:nvPr/>
            </p:nvSpPr>
            <p:spPr>
              <a:xfrm>
                <a:off x="6526080" y="2651760"/>
                <a:ext cx="165600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 txBox="1"/>
              <p:nvPr/>
            </p:nvSpPr>
            <p:spPr>
              <a:xfrm>
                <a:off x="6526080" y="2651760"/>
                <a:ext cx="165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9"/>
            <p:cNvGrpSpPr/>
            <p:nvPr/>
          </p:nvGrpSpPr>
          <p:grpSpPr>
            <a:xfrm>
              <a:off x="6732360" y="1413360"/>
              <a:ext cx="1295280" cy="1123920"/>
              <a:chOff x="6732360" y="1413360"/>
              <a:chExt cx="1295280" cy="1123920"/>
            </a:xfrm>
          </p:grpSpPr>
          <p:sp>
            <p:nvSpPr>
              <p:cNvPr id="1192" name="Rectangle 10"/>
              <p:cNvSpPr/>
              <p:nvPr/>
            </p:nvSpPr>
            <p:spPr>
              <a:xfrm>
                <a:off x="6732360" y="141336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Rectangle 11"/>
              <p:cNvSpPr/>
              <p:nvPr/>
            </p:nvSpPr>
            <p:spPr>
              <a:xfrm>
                <a:off x="6732360" y="165132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Rectangle 12"/>
              <p:cNvSpPr/>
              <p:nvPr/>
            </p:nvSpPr>
            <p:spPr>
              <a:xfrm>
                <a:off x="6732360" y="191664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3"/>
              <p:cNvSpPr/>
              <p:nvPr/>
            </p:nvSpPr>
            <p:spPr>
              <a:xfrm>
                <a:off x="6732360" y="216576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4"/>
              <p:cNvSpPr/>
              <p:nvPr/>
            </p:nvSpPr>
            <p:spPr>
              <a:xfrm>
                <a:off x="6732360" y="2394000"/>
                <a:ext cx="1295280" cy="143280"/>
              </a:xfrm>
              <a:prstGeom prst="rect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Oval 15"/>
            <p:cNvSpPr/>
            <p:nvPr/>
          </p:nvSpPr>
          <p:spPr>
            <a:xfrm>
              <a:off x="6955200" y="2603520"/>
              <a:ext cx="89280" cy="8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Text Box 16"/>
            <p:cNvSpPr/>
            <p:nvPr/>
          </p:nvSpPr>
          <p:spPr>
            <a:xfrm>
              <a:off x="6879240" y="2592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EU-B1X"/>
                  <a:ea typeface="EU-B1X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Text Box 17"/>
          <p:cNvSpPr/>
          <p:nvPr/>
        </p:nvSpPr>
        <p:spPr>
          <a:xfrm>
            <a:off x="1942200" y="3125880"/>
            <a:ext cx="498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用在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发现的规律，检验下面各组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EU-B1X"/>
                <a:ea typeface="EU-B1X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否互相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Picture 18" descr="91"/>
          <p:cNvPicPr/>
          <p:nvPr/>
        </p:nvPicPr>
        <p:blipFill>
          <a:blip r:embed="rId1"/>
          <a:stretch/>
        </p:blipFill>
        <p:spPr>
          <a:xfrm>
            <a:off x="1332000" y="4294080"/>
            <a:ext cx="590400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201" name=""/>
          <p:cNvGrpSpPr/>
          <p:nvPr/>
        </p:nvGrpSpPr>
        <p:grpSpPr>
          <a:xfrm>
            <a:off x="7000920" y="1285920"/>
            <a:ext cx="360" cy="1357200"/>
            <a:chOff x="7000920" y="1285920"/>
            <a:chExt cx="360" cy="1357200"/>
          </a:xfrm>
        </p:grpSpPr>
        <p:sp>
          <p:nvSpPr>
            <p:cNvPr id="1202" name="Line 9"/>
            <p:cNvSpPr/>
            <p:nvPr/>
          </p:nvSpPr>
          <p:spPr>
            <a:xfrm>
              <a:off x="7000920" y="1285920"/>
              <a:ext cx="0" cy="1357200"/>
            </a:xfrm>
            <a:prstGeom prst="line">
              <a:avLst/>
            </a:prstGeom>
            <a:ln w="2556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 txBox="1"/>
            <p:nvPr/>
          </p:nvSpPr>
          <p:spPr>
            <a:xfrm>
              <a:off x="7000920" y="1285920"/>
              <a:ext cx="360" cy="13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7000920" y="2500200"/>
            <a:ext cx="142920" cy="360"/>
            <a:chOff x="7000920" y="2500200"/>
            <a:chExt cx="142920" cy="360"/>
          </a:xfrm>
        </p:grpSpPr>
        <p:sp>
          <p:nvSpPr>
            <p:cNvPr id="1205" name="Line 32"/>
            <p:cNvSpPr/>
            <p:nvPr/>
          </p:nvSpPr>
          <p:spPr>
            <a:xfrm>
              <a:off x="7000920" y="2500200"/>
              <a:ext cx="142920" cy="0"/>
            </a:xfrm>
            <a:prstGeom prst="line">
              <a:avLst/>
            </a:prstGeom>
            <a:ln w="2556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 txBox="1"/>
            <p:nvPr/>
          </p:nvSpPr>
          <p:spPr>
            <a:xfrm>
              <a:off x="7000920" y="2500200"/>
              <a:ext cx="1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7134120" y="2500200"/>
            <a:ext cx="1800" cy="142920"/>
            <a:chOff x="7134120" y="2500200"/>
            <a:chExt cx="1800" cy="142920"/>
          </a:xfrm>
        </p:grpSpPr>
        <p:sp>
          <p:nvSpPr>
            <p:cNvPr id="1208" name="Line 33"/>
            <p:cNvSpPr/>
            <p:nvPr/>
          </p:nvSpPr>
          <p:spPr>
            <a:xfrm>
              <a:off x="7134120" y="2500200"/>
              <a:ext cx="1800" cy="142920"/>
            </a:xfrm>
            <a:prstGeom prst="line">
              <a:avLst/>
            </a:prstGeom>
            <a:ln w="2556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7134120" y="2500200"/>
              <a:ext cx="180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1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1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4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6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1" name="Rectangle 64"/>
          <p:cNvSpPr/>
          <p:nvPr/>
        </p:nvSpPr>
        <p:spPr>
          <a:xfrm>
            <a:off x="600120" y="179280"/>
            <a:ext cx="250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2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3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32"/>
          <p:cNvSpPr/>
          <p:nvPr/>
        </p:nvSpPr>
        <p:spPr>
          <a:xfrm>
            <a:off x="365040" y="992160"/>
            <a:ext cx="84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垂线有两个重合：一是三角尺的一条直角边与已知直线重合，二是点在直线上时，三角尺的顶点与这一点重合，点在直线外时，三角尺的另一条直线边经过这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直线外一点到这条直线所画的线段中垂直线段最短，它的长度叫做这点到直线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利用两条平行线间与两条平行线相互垂直的线段长度相等的性质，可以检验两条直线是否互相平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3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99"/>
          <p:cNvSpPr/>
          <p:nvPr/>
        </p:nvSpPr>
        <p:spPr>
          <a:xfrm>
            <a:off x="279360" y="900000"/>
            <a:ext cx="797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判断题。（对的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√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错的打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"×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同一平面内不相交的两条直线叫做平行线。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条平行线之间只能作一条垂线。          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面内两条直线不垂直就一定平行。        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条平行线间的距离处处相等。             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1"/>
          <p:cNvSpPr/>
          <p:nvPr/>
        </p:nvSpPr>
        <p:spPr>
          <a:xfrm>
            <a:off x="7388280" y="3271680"/>
            <a:ext cx="3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2"/>
          <p:cNvSpPr/>
          <p:nvPr/>
        </p:nvSpPr>
        <p:spPr>
          <a:xfrm>
            <a:off x="7331040" y="21668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3"/>
          <p:cNvSpPr/>
          <p:nvPr/>
        </p:nvSpPr>
        <p:spPr>
          <a:xfrm>
            <a:off x="7331040" y="26938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4"/>
          <p:cNvSpPr/>
          <p:nvPr/>
        </p:nvSpPr>
        <p:spPr>
          <a:xfrm>
            <a:off x="7373880" y="1612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05:56:24Z</dcterms:created>
  <dc:creator/>
  <dc:description/>
  <dc:language>en-US</dc:language>
  <cp:lastModifiedBy>万润仪器贸易公司</cp:lastModifiedBy>
  <dcterms:modified xsi:type="dcterms:W3CDTF">2020-08-21T08:57:21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